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464-23A6-4CCC-BE8F-9110FEAA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48E-A3D7-4E03-BC7B-3D4CE24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8E1-4C86-4431-99E2-32B95259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A2D-6F33-490D-81F0-58A243E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01A-29B4-4FC8-BC9A-29BF6094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EDB0-F7DC-4B01-8B07-1B1D2FF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CC2-3A6C-44AA-9F1D-F20ACF3D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2415-C0B0-4E91-A7D8-72874FB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DFA5-5B99-463F-A130-5AB56D6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AA2B-3EBC-451E-BA02-CFB1339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793E-4759-4445-9711-9D479C6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979-B097-4D17-A649-33236B17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6ED7-1E38-4502-814F-112D348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F8EF-4D91-49B3-9374-748AFFB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CFBA-0730-4E8F-884B-D4C8CC2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89E8-10BF-423D-81CC-26AEDCF3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0E7C-415F-4294-886A-8DB9DD50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2EC-4344-4C1F-B5EF-4AD325AA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69F-9C8E-49CA-8008-FBCB036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A5E-B696-4852-B06B-84FC338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FDF-6768-4E5C-828B-EDBDAC2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E80-2814-4BFC-960A-90D0B101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A2F-5C00-4217-ACC7-373BAED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367-9242-4CD1-8459-672F9C9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FED-27A1-4F56-A1D5-05C1AD26FA1E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F514-BB75-4249-A531-A2CCB46AC689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533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老 马 识 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828800"/>
            <a:ext cx="7238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：二千多年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：齐国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管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件：齐军人马被困山谷，管     仲用老马带领队伍回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144792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马识途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喻有经验的人能在生活、工作中起引导作用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81080" y="380880"/>
            <a:ext cx="4953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进成语王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438280"/>
            <a:ext cx="5638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书推荐：读成语，学    历史（上，下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功能小学生插图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19320" y="609480"/>
            <a:ext cx="6486480" cy="5716080"/>
            <a:chOff x="1219320" y="609480"/>
            <a:chExt cx="6486480" cy="5716080"/>
          </a:xfrm>
        </p:grpSpPr>
        <p:sp>
          <p:nvSpPr>
            <p:cNvPr id="201" name=""/>
            <p:cNvSpPr/>
            <p:nvPr/>
          </p:nvSpPr>
          <p:spPr>
            <a:xfrm>
              <a:off x="2895840" y="4343400"/>
              <a:ext cx="4809960" cy="10666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72428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字端正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3352680"/>
              <a:ext cx="4078440" cy="99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840" y="3657600"/>
              <a:ext cx="203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词准确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360" y="2438280"/>
              <a:ext cx="304776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560" y="26668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句通顺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1676160"/>
              <a:ext cx="20574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640" y="17524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生动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760" y="5500440"/>
              <a:ext cx="563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自 写 步 步 高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01160" y="609480"/>
              <a:ext cx="1066680" cy="1143000"/>
              <a:chOff x="6401160" y="609480"/>
              <a:chExt cx="1066680" cy="114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401160" y="609480"/>
                <a:ext cx="1066680" cy="6094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78840 h 609480"/>
                  <a:gd name="textAreaBottom" fmla="*/ 530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01160" y="6854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8487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190512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十分沉着。他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，他在雪地上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3434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最后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848720" y="601992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090" h="21600">
                <a:moveTo>
                  <a:pt x="12018" y="3985"/>
                </a:moveTo>
                <a:lnTo>
                  <a:pt x="19016" y="3985"/>
                </a:lnTo>
                <a:lnTo>
                  <a:pt x="23072" y="7484"/>
                </a:lnTo>
                <a:lnTo>
                  <a:pt x="23072" y="17615"/>
                </a:lnTo>
                <a:lnTo>
                  <a:pt x="12018" y="17615"/>
                </a:lnTo>
                <a:close/>
              </a:path>
              <a:path fill="darken" w="35090" h="21600">
                <a:moveTo>
                  <a:pt x="19016" y="3985"/>
                </a:moveTo>
                <a:lnTo>
                  <a:pt x="23072" y="7484"/>
                </a:lnTo>
                <a:lnTo>
                  <a:pt x="19016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2133720"/>
            <a:ext cx="5791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英勇善战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足智多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将士们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老马识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连词成句     组合多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着急，但他十分沉着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着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但他十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沉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1981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80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迷路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219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隆冬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0574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狂风怒号     寒气逼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积雪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505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71440" y="685800"/>
            <a:ext cx="68580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590920"/>
            <a:ext cx="6094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4382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800" y="17524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5105520"/>
            <a:ext cx="2895480" cy="642600"/>
            <a:chOff x="1219320" y="5105520"/>
            <a:chExt cx="2895480" cy="642600"/>
          </a:xfrm>
        </p:grpSpPr>
        <p:sp>
          <p:nvSpPr>
            <p:cNvPr id="162" name=""/>
            <p:cNvSpPr/>
            <p:nvPr/>
          </p:nvSpPr>
          <p:spPr>
            <a:xfrm>
              <a:off x="1219320" y="5105520"/>
              <a:ext cx="121896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隆冬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510552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积雪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191120" y="5105520"/>
            <a:ext cx="1752480" cy="642600"/>
            <a:chOff x="4191120" y="5105520"/>
            <a:chExt cx="1752480" cy="642600"/>
          </a:xfrm>
        </p:grpSpPr>
        <p:sp>
          <p:nvSpPr>
            <p:cNvPr id="166" name=""/>
            <p:cNvSpPr/>
            <p:nvPr/>
          </p:nvSpPr>
          <p:spPr>
            <a:xfrm>
              <a:off x="4724280" y="5105520"/>
              <a:ext cx="121932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迷路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52578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19920" y="4572000"/>
            <a:ext cx="2514600" cy="1477080"/>
            <a:chOff x="6019920" y="4572000"/>
            <a:chExt cx="2514600" cy="1477080"/>
          </a:xfrm>
        </p:grpSpPr>
        <p:sp>
          <p:nvSpPr>
            <p:cNvPr id="169" name=""/>
            <p:cNvSpPr/>
            <p:nvPr/>
          </p:nvSpPr>
          <p:spPr>
            <a:xfrm>
              <a:off x="6477120" y="4572000"/>
              <a:ext cx="2057400" cy="14770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狂风怒号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寒气逼人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95280" y="5257800"/>
            <a:ext cx="7848720" cy="1328400"/>
            <a:chOff x="1295280" y="5257800"/>
            <a:chExt cx="7848720" cy="1328400"/>
          </a:xfrm>
        </p:grpSpPr>
        <p:sp>
          <p:nvSpPr>
            <p:cNvPr id="172" name=""/>
            <p:cNvSpPr/>
            <p:nvPr/>
          </p:nvSpPr>
          <p:spPr>
            <a:xfrm>
              <a:off x="1295280" y="594360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惊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10480" y="5257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14600" y="5943600"/>
            <a:ext cx="1600200" cy="703440"/>
            <a:chOff x="2514600" y="5943600"/>
            <a:chExt cx="1600200" cy="703440"/>
          </a:xfrm>
        </p:grpSpPr>
        <p:sp>
          <p:nvSpPr>
            <p:cNvPr id="175" name=""/>
            <p:cNvSpPr/>
            <p:nvPr/>
          </p:nvSpPr>
          <p:spPr>
            <a:xfrm>
              <a:off x="2895480" y="5943600"/>
              <a:ext cx="1219320" cy="7034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着急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91_0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143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问题归类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666880"/>
            <a:ext cx="4648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原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表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结果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4724280"/>
            <a:ext cx="5867280" cy="1084680"/>
            <a:chOff x="1371600" y="4724280"/>
            <a:chExt cx="5867280" cy="1084680"/>
          </a:xfrm>
        </p:grpSpPr>
        <p:sp>
          <p:nvSpPr>
            <p:cNvPr id="181" name=""/>
            <p:cNvSpPr/>
            <p:nvPr/>
          </p:nvSpPr>
          <p:spPr>
            <a:xfrm>
              <a:off x="2666880" y="4724280"/>
              <a:ext cx="4572000" cy="106704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通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657600" y="3733920"/>
            <a:ext cx="3581280" cy="99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96252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读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720" y="2819520"/>
            <a:ext cx="3886200" cy="932040"/>
            <a:chOff x="3276720" y="2819520"/>
            <a:chExt cx="3886200" cy="932040"/>
          </a:xfrm>
        </p:grpSpPr>
        <p:sp>
          <p:nvSpPr>
            <p:cNvPr id="186" name=""/>
            <p:cNvSpPr/>
            <p:nvPr/>
          </p:nvSpPr>
          <p:spPr>
            <a:xfrm>
              <a:off x="4648320" y="2819520"/>
              <a:ext cx="251460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3048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好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38480" y="2057400"/>
            <a:ext cx="3048120" cy="779760"/>
            <a:chOff x="4038480" y="2057400"/>
            <a:chExt cx="3048120" cy="779760"/>
          </a:xfrm>
        </p:grpSpPr>
        <p:sp>
          <p:nvSpPr>
            <p:cNvPr id="189" name=""/>
            <p:cNvSpPr/>
            <p:nvPr/>
          </p:nvSpPr>
          <p:spPr>
            <a:xfrm>
              <a:off x="5257800" y="2057400"/>
              <a:ext cx="18288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13372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熟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90920" y="603396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自 读 步 步 高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48520" y="990720"/>
            <a:ext cx="1066680" cy="1143000"/>
            <a:chOff x="6248520" y="990720"/>
            <a:chExt cx="1066680" cy="1143000"/>
          </a:xfrm>
        </p:grpSpPr>
        <p:sp>
          <p:nvSpPr>
            <p:cNvPr id="193" name=""/>
            <p:cNvSpPr/>
            <p:nvPr/>
          </p:nvSpPr>
          <p:spPr>
            <a:xfrm>
              <a:off x="6248520" y="990720"/>
              <a:ext cx="1066680" cy="6094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10666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1905120"/>
            <a:ext cx="769608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管仲带领人马回到齐国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桓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士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亲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57200"/>
            <a:ext cx="20574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写  话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01:08:29Z</dcterms:created>
  <dc:creator>lihua</dc:creator>
  <dc:description/>
  <dc:language>en-US</dc:language>
  <cp:lastModifiedBy>SJ</cp:lastModifiedBy>
  <dcterms:modified xsi:type="dcterms:W3CDTF">2001-12-02T04:01:28Z</dcterms:modified>
  <cp:revision>6</cp:revision>
  <dc:subject/>
  <dc:title>没有幻灯片标题</dc:title>
</cp:coreProperties>
</file>